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9B38-4277-4805-BD46-0D8B3E2E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4F9-A459-4DEC-B6DA-3831B3FD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DFF5-8D17-40CB-B5A0-0E6134FD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BED-D1C0-4A4C-9E31-4EA29A06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82A9-D6CA-4DB6-81E3-C0509991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911-F8F5-4691-B91B-362DA8D2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D33B-6895-4211-B2F3-CAB70DE2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E5C5-948C-48DD-A7A4-F33638B5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7B0-8478-4D57-99BC-BAB99758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5641-3552-4762-8D17-189798A5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64C4-DCA7-45F5-B52D-015362B6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6C2-2135-4809-A8DD-3D00941A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B441-EA2E-430A-BEDB-32AE7FACA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for the Common Core Stand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. Nesi – I.S. 2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ibrary Spring Co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y 18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pipha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2362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formity of curriculum will not necessarily equal CCS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 Merging:  As long as we wan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niformity and CCS, why not address both issues at o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urriculum mapping sit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commoncore.org/maps/index.php/maps/grades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may not have to completely re-invent the wheel after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k, Turn and Talk Dire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all that apply on the Think Turn &amp; Talk hand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sure to provide brief explanations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to a neighbor and talk it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Question and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gested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e Activities and Assess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Plan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d Explor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 lists for the units/FAM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ders of printabl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meetings per week to hammer it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the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 work on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unit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-do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book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general plan for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next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the year after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ease take a few moments to evaluate this workshop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 Told You So!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Finding the Overlap Between CCS and IFC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complete the Do N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CS Hand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C Po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ommon Core Standar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Ostrich.bmp"/>
          <p:cNvPicPr/>
          <p:nvPr/>
        </p:nvPicPr>
        <p:blipFill>
          <a:blip r:embed="rId1"/>
          <a:stretch/>
        </p:blipFill>
        <p:spPr>
          <a:xfrm>
            <a:off x="2127240" y="1974960"/>
            <a:ext cx="49687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 First … Mostly Fear &amp; Den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9-2010 –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ELA curriculum mapping for uniform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er 2010 CCS worksh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w grab materials re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’ve got until 2014…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n … The Realiza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dering and “dumping” of materials would not be en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tent of the paradigm shi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mount of work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llowed by Pan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5" descr="panic-woman-face.jpg"/>
          <p:cNvPicPr/>
          <p:nvPr/>
        </p:nvPicPr>
        <p:blipFill>
          <a:blip r:embed="rId1"/>
          <a:stretch/>
        </p:blipFill>
        <p:spPr>
          <a:xfrm>
            <a:off x="2736720" y="1743120"/>
            <a:ext cx="3749760" cy="42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Then More Common Core Workshops and Den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2 ostriches.jpg"/>
          <p:cNvPicPr/>
          <p:nvPr/>
        </p:nvPicPr>
        <p:blipFill>
          <a:blip r:embed="rId1"/>
          <a:stretch/>
        </p:blipFill>
        <p:spPr>
          <a:xfrm>
            <a:off x="2432160" y="1743120"/>
            <a:ext cx="4286160" cy="41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all Saturday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“task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’ve known this all al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ing the task is not en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” tasks should inform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Grade ELA Work Begi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CCS still off in the distance, we work hard to make some misste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 teacher meetings to verbalize and plan to address dissatisf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of ELA Surve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of Resources Used 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2:33:33Z</dcterms:created>
  <dc:creator>NYCDOE</dc:creator>
  <dc:description/>
  <dc:language>en-US</dc:language>
  <cp:lastModifiedBy>NYCDOE</cp:lastModifiedBy>
  <dcterms:modified xsi:type="dcterms:W3CDTF">2011-05-14T14:44:37Z</dcterms:modified>
  <cp:revision>80</cp:revision>
  <dc:subject/>
  <dc:title>Curriculum Mapping for the Common Core Standards</dc:title>
</cp:coreProperties>
</file>